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8092-DC32-4C96-B531-76A8073A8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6432-343D-4B91-9B72-7C663EB9F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F48E-C903-405F-82CA-89B56E4CE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A63A-D25C-44B3-93C7-3C62AFECE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AB06-42CB-4FBA-BD2A-DA4E8A87CB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7FB4-182F-4145-A053-0F9D4289D3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F88F-CE7E-4404-9AE2-BFEE23B298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93C0-FC3C-42A3-9E6A-88AF2F271D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035E-B3AF-4850-AD82-C411C52981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70CA-1E41-40E7-B4F7-9EAB6B606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8FEE-474D-440F-8875-123474997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716D-CAF5-4A19-8EE4-BAF6BFA0C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2612-CF30-4102-9E07-7FAED288E8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E18C-5045-40CF-88A3-78EC349938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4991-3DD1-40A2-B1F3-0B8948D915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A964-3B0E-4BA6-8886-E77DDA8F4D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EE92-67B3-4FAD-AE97-E69505D7A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7AB3-4FEB-4D9B-B77E-CC3A37624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3C70-B101-44BF-A1AC-4E6F227B7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2EB7-0FCB-4E50-9E8A-039A99E89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3949-63E1-4DB6-AEF1-C8625C853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AFF5-EA5E-4155-A343-1D08C0BE1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987F-9974-41EA-9E61-8F06BEC31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A35F-68F1-40AE-9E1D-50CD8D3AC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C06B7-ED08-483D-91C3-015760697C5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400"/>
            <a:ext cx="7383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77CB14-139F-4C8D-8294-6720757EBBC7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enagold.ru/fon/clipart/m/mork/mork18.pn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g0.liveinternet.ru/images/attach/c/7/94/575/94575304_565490722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swetlanka.ru/wp-content/uploads/2009/04/zaya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happiness-shop.ru/userfiles/image/test_folder/2-parachute-v-nebe-1024.jp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img0.liveinternet.ru/images/attach/c/0/44/45/44045020_1242642872_4.jp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img0.liveinternet.ru/images/attach/c/3/76/80/76080094_21.jpg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www.nadietax.com/uploads/posts/2013-05/2013-09/1378723867_Tykva.png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3520" y="304920"/>
            <a:ext cx="7386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произведениями малых фольклорных жанров – пословицей, поговоркой и заг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произведениям народного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отгадывать загадки, сравнивать предмет загадки и предмет отгадки, выделять признаки предмета, на которые указывает зага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ть проявление творческой активности детей при отгадывании загадок и составлении своих собств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алые фольклорные жанры устного народ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3520" y="1598760"/>
            <a:ext cx="73864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, в котором один предмет изображается посредством другого, имеющего с ним какое-нибудь, хотя бы отдалённое, схо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алая форма народного поэтического творчества, облачённая в краткое, ритмизованное изречение, несущее обобщённую мысль, вывод, иносказание с поучительным уклон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сочетание, оборот речи, отражающий какое-либо явление жизни. Часто имеет юмористически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Сидит красная девица в тем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а коса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4497480"/>
            <a:ext cx="358128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2351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89548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ленький, беленький,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лесочку прыг-прыг!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снежочку тык-тык!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2504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д лугом парашютики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чаются на прутик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172908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Что можно сказать о людях, сочинивших такие загад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тель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богат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Составление заг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т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свёк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ык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971800" y="2819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90920" y="46864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Продолж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 язык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опись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ом пиш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 бо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ольш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д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мас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ва и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enagold.ru/fon/clipart/m/mork/mork18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девушки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c/7/94/575/94575304_56549072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swetlanka.ru/wp-content/uploads/2009/04/zay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шют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happiness-shop.ru/userfiles/image/test_folder/2-parachute-v-nebe-10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уш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0.liveinternet.ru/images/attach/c/0/44/45/44045020_1242642872_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img0.liveinternet.ru/images/attach/c/3/76/80/76080094_2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кв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www.nadietax.com/uploads/posts/2013-05/2013-09/1378723867_Tykv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6T09:22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